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1AD-D818-4A44-84E7-8EDFB826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50F7-0DBF-46FE-A695-C3F6A929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DAB-0CD8-46A4-8A4D-4AF16384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3AB-65CA-49A2-8943-7F936BB1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4D8-5160-4EF9-9BAD-5467FE13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2DA-977C-4BD8-8467-21AF59F3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A04E-8920-4298-BBF3-4C37E095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81B3-7008-4452-A4E2-9F7787D1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4D64-8D1C-4C35-9CFB-E81CB65A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B01D-5A0C-4656-9760-23F096D3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D64B-B128-49FE-89D9-307C7053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568-B864-432D-8832-D46C7F0A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32BE-EC56-4FA2-B369-82455B8B1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12.wa.us/Resources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k12.wa.us/CurriculumInstruct/" TargetMode="External"/><Relationship Id="rId4" Type="http://schemas.openxmlformats.org/officeDocument/2006/relationships/hyperlink" Target="http://www.k12.wa.us/CurriculumInstruct/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37960" y="2286000"/>
            <a:ext cx="28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12.wa.us/Resource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5257800" cy="571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440" y="380952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k12.wa.us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urriculumInstru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5"/>
          <a:stretch/>
        </p:blipFill>
        <p:spPr>
          <a:xfrm>
            <a:off x="5334120" y="1371600"/>
            <a:ext cx="1333440" cy="7365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5187960" y="2133720"/>
            <a:ext cx="269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andards.ospi.k12.wa.u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1060560" y="586728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reportcard.ospi.k12.wa.u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6"/>
          <a:stretch/>
        </p:blipFill>
        <p:spPr>
          <a:xfrm>
            <a:off x="5029200" y="3733920"/>
            <a:ext cx="2222640" cy="1092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8"/>
          <p:cNvSpPr/>
          <p:nvPr/>
        </p:nvSpPr>
        <p:spPr>
          <a:xfrm>
            <a:off x="4337640" y="4952880"/>
            <a:ext cx="43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k12.wa.us/TeacherResourceTool2009-10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7"/>
          <a:stretch/>
        </p:blipFill>
        <p:spPr>
          <a:xfrm>
            <a:off x="1143000" y="5105520"/>
            <a:ext cx="2286000" cy="596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Screen shot 2011-10-07 at 8.31.28 AM.png"/>
          <p:cNvPicPr/>
          <p:nvPr/>
        </p:nvPicPr>
        <p:blipFill>
          <a:blip r:embed="rId8"/>
          <a:stretch/>
        </p:blipFill>
        <p:spPr>
          <a:xfrm>
            <a:off x="1828800" y="304920"/>
            <a:ext cx="15256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5:44:55Z</dcterms:created>
  <dc:creator>Mark Roddy User</dc:creator>
  <dc:description/>
  <dc:language>en-US</dc:language>
  <cp:lastModifiedBy>Mark Roddy</cp:lastModifiedBy>
  <dcterms:modified xsi:type="dcterms:W3CDTF">2011-10-07T15:35:48Z</dcterms:modified>
  <cp:revision>3</cp:revision>
  <dc:subject/>
  <dc:title>PowerPoint Presentation</dc:title>
</cp:coreProperties>
</file>